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5AD-8D0D-420F-B6A7-5253731E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2521-D80C-45A7-AF9C-266ADEC4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C0B-D4D7-4C39-A30C-0006447C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077-3C89-442C-AC91-0E8DBEC9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07A-6AB2-40B3-B014-FB3A761F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65E8-4092-4665-B436-01A58E09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9CF8-D583-4104-AC63-0F219715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3C1-1CFF-4400-A35C-745C7714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2B5-A169-4FEE-B115-CB680245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EA12-960A-469A-BF00-991984CE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4C7-FF37-4357-8B8E-EC4EEB30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575-8183-4FF6-8443-941D2840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8B26-FEE1-4C42-9BEA-9FACEADEE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P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-Wide Positive Behavio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0" y="685800"/>
            <a:ext cx="132408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4040" y="5105520"/>
            <a:ext cx="11635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Respect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Here, Be 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new ru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l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l Tools = Lesson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h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fe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d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ral 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d how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Referra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d how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of Offe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Off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Refer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Off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rikes, You’re 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ew Look For SAP/Behavior Intervention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e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se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team/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, Data,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S data collec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5:31:40Z</dcterms:created>
  <dc:creator>sollon</dc:creator>
  <dc:description/>
  <dc:language>en-US</dc:language>
  <cp:lastModifiedBy>sollon</cp:lastModifiedBy>
  <dcterms:modified xsi:type="dcterms:W3CDTF">2007-08-20T17:31:31Z</dcterms:modified>
  <cp:revision>5</cp:revision>
  <dc:subject/>
  <dc:title>SWPB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68293451</vt:r8>
  </property>
  <property fmtid="{D5CDD505-2E9C-101B-9397-08002B2CF9AE}" pid="3" name="_AuthorEmail">
    <vt:lpwstr>sollon@washington.k12.pa.us</vt:lpwstr>
  </property>
  <property fmtid="{D5CDD505-2E9C-101B-9397-08002B2CF9AE}" pid="4" name="_AuthorEmailDisplayName">
    <vt:lpwstr>Sollon, Margaret</vt:lpwstr>
  </property>
  <property fmtid="{D5CDD505-2E9C-101B-9397-08002B2CF9AE}" pid="5" name="_EmailSubject">
    <vt:lpwstr/>
  </property>
</Properties>
</file>